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A02-4052-49EA-81DB-C612FF6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07C-4766-400F-9DF4-4C16DCCD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67D-1257-4065-95B5-33EC2C4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478-C977-4749-8201-48C87C64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D71-804C-43E3-A0C7-38A63B0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BE1-3FC7-487B-8BB0-1B5FD01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D5E-E16B-4195-B3D4-02C33DCC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A40-3341-47E4-AC12-4878C22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9C-78FA-4758-891D-AE82FFB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ED6-43C8-48F0-AEF1-EAADAD1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4DF-7CB8-4F02-A063-C16AB7E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F75-67EB-41E4-AF71-37162F3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5DB-2B32-4627-9448-02903FEC7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yota Corolla Gas Mil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c2cmsp.wikispaces.com/Evi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7640" y="106668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&amp; 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95280"/>
          <a:ext cx="8153280" cy="42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532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hypothesis was that curb weight and horsepower was related to gas mile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und that our data was inclusive to determine the actual cause of MPG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We suspect a government cover up by the Japanese  to increase car sale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1148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a three mpg increase during 2001-2002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the curb wt. Increase of 102 lbs. Between 2002-200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Social Studies</cp:lastModifiedBy>
  <dcterms:modified xsi:type="dcterms:W3CDTF">2009-01-14T23:26:50Z</dcterms:modified>
  <cp:revision>9</cp:revision>
  <dc:subject/>
  <dc:title>PowerPoint Presentation</dc:title>
</cp:coreProperties>
</file>